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0C1-02BB-4639-909D-AEF7AED5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595-88E0-45D7-B537-454E2C5D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625-271C-460E-BB34-34AB3294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B14-C495-4631-BF5B-15DA5603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41D-3BE9-4280-B8A4-BF176B3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D36-F855-418F-A498-35AA7993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28E-0D40-4F0B-91DF-2FCA67E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B36-CBD5-4490-B99F-36B5976F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DE2-060B-45EB-9491-8E8235F9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E5A-19C0-4E95-9AA3-B4AD1161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249-13B1-4B30-91CD-3C381F6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31D-2D7C-4E64-B001-E682AF1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41D-3BC7-492D-A9A5-507FE130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odus Ro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er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4419720"/>
            <a:ext cx="6572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ome Evidence Is Better Than Non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12680"/>
            <a:ext cx="754056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568680" cy="2682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133720" y="236232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114800" y="380880"/>
            <a:ext cx="4714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Place Where 2-3 Mill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ld Be "Shut In"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.14: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19320" y="6094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Exodus Route And Mount Sinai Ever Been A Settled Issue In The Last 1800 Yea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600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Important To Know About Other O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124080"/>
            <a:ext cx="6629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ptics Use This Uncertainty To Create Doubts About The Entir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That More Investigation Has Always Brought About Better Evidences FOR The Bible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That Sometimes A Wrong Assumption Can Lead Us To Look In The Wrong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That Popular Beliefs Are Not Always Best With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ummary of The Journey From Egypt To Si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they were “out of Egyp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, they went through “the wilderness of the Red Se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, They Were Trapped By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, God Opened The Sea And Allowed The Israelites To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, The Egyptian Armies Were Destroyed In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ummary of The Journey From Egypt To Si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raelites Had Been “Baptized Unto Mo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elebrate Their Salvation – Ex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me to Marah – Bitter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mplain of Hunger &amp; God Feeds Them Manna and Qu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attle The Amalek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hro  Visits M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ummary of The Journey From Egypt To Sin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’s Awesome Presence On The 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O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Ra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venant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9360" y="647640"/>
            <a:ext cx="4780080" cy="598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295280" y="0"/>
            <a:ext cx="6934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odus Route Controvers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44492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019920" y="2209680"/>
            <a:ext cx="2571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bal Musa 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abal Al Lawz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19920" y="4038480"/>
            <a:ext cx="24858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cal a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tra-bibl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id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864240" cy="471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0" y="22860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dian Has The Mount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7432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Mt. Sinai is not certain. No scholars say it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60020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hopeless to think that we can be exact about the route of the Exodus……The exact point at which they crossed the Red Sea is unknown.  -Bob Waldron, p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19320" y="5562720"/>
            <a:ext cx="6296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rabia Has The Mountain- Gal.4:2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553080" y="304920"/>
            <a:ext cx="98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.3: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886200" cy="29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581280" y="685800"/>
            <a:ext cx="160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uweib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19520" y="4572000"/>
            <a:ext cx="31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ll Accomodat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3 Mill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952880" cy="326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39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867280" y="4419720"/>
            <a:ext cx="2657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latians 4:2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657600"/>
            <a:ext cx="33526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odus 3 Do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 Indicate Tha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ses Left Midi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o A Mountain I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other Territo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81560" cy="2884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8600" y="3429000"/>
            <a:ext cx="45529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y Were "out of Egypt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fore They Cross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Red Sea - Ex.14:11,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05520" y="762120"/>
            <a:ext cx="275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uez is no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out of Egypt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38680" y="3886200"/>
            <a:ext cx="31528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Gulf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qaba is throug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wildernes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d out of Egyp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38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38280" y="4724280"/>
            <a:ext cx="4353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t Mainland Egypt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ut Place of Egypti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posts And Influ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572000" cy="1839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2500200"/>
            <a:ext cx="3124080" cy="290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5715000" cy="332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105520" y="152280"/>
            <a:ext cx="3581280" cy="238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800600" y="5715000"/>
            <a:ext cx="31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roaching S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638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hy Are Chariot Wheels In The S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21:02:17Z</dcterms:created>
  <dc:creator>Terry Benton</dc:creator>
  <dc:description/>
  <dc:language>en-US</dc:language>
  <cp:lastModifiedBy>Frank D Vines</cp:lastModifiedBy>
  <dcterms:modified xsi:type="dcterms:W3CDTF">2008-04-26T15:42:07Z</dcterms:modified>
  <cp:revision>10</cp:revision>
  <dc:subject/>
  <dc:title>The Exodus Route</dc:title>
</cp:coreProperties>
</file>